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CA4-E8C5-4226-B18D-2CF52001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EDD-50DC-4A72-9E20-D45ED5AD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431C-EA86-4E98-9A23-6AB998DC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EC9-9F41-4F53-9FE3-C57A6DE5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5BD-3526-4380-BC1E-2CA03F0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DD6-72D3-497E-81A9-1BC0C1E5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481-1934-44A7-BE37-EC3D6C7C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E7CD-BA93-4F18-9BF7-01B962B9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BA1-7BE4-4F16-9CC4-E2B9F54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E4F-BE9B-48D8-8CDF-285FE54F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96B-01CE-4E67-A382-47D504A2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84F-43DF-448B-AB60-7E5618B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EE98-99FB-46B6-A5DA-41A28D538D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А ЕПИДЕМИОЛОГ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РЕЋА 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 ЧЕТВРТА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НАС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ДА ЗА ПИ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282240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стабилан хемијски спој  водоника и кисео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и чиста вода (десатилована вода)  при притиску од 1 атмосфере  има тачку мржњења од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тачку кључања од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а највеће густине је на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990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НИЦИЈ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89000"/>
            <a:ext cx="81532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Земљи има 1,5 милијарди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оде. Од те количине 97, 3% је слана вода, а само 2,7% слатка. Од укупне количине слатке воде 77,2% је у вечитом леду на половима и у планинским глече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укупне количине расположиве слатке воде 22,4% су подземне воде, а 0,36% површинск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коришћење је на располагању 1% укупне количине воде на Земљ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2209680"/>
            <a:ext cx="60958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ГИЈ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ПИДЕМ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28800" y="3086280"/>
          <a:ext cx="5486400" cy="6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86280"/>
                    <a:ext cx="5486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-76320" y="1828800"/>
            <a:ext cx="899172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један од основних услова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организма одраслог човека чин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оред во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ла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% од телесне теж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Ли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кстрацел.  интраваск. плаз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стицијал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2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рацелулар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0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локупна течност организ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70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1981080"/>
            <a:ext cx="79250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 хидростатски, онкотски и осмотск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огућава обављање биохемијских процеса и уклањање штетних супстанција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нормалном функционисању здравог организма одржава се стални биланс воде у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404640"/>
            <a:ext cx="8382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ланс воде у здравом орган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Pillenu и Rushmae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ношењe вoд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блик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количина(ml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пут       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личина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a течност              1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лућ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a                                  1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oда oксидације                 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р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eц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пно                        26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купн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79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1828800"/>
            <a:ext cx="822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неопходна намирница за сва жива б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 потребе у води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ео и годишње доб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Потребе у  во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рена клим. подр. (30-40 ml/kg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арки преде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сти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1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1341360"/>
            <a:ext cx="83818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воде човек може да издржи само неколи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дице губитк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Дневни губитак у литр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на дехидрациј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5 литара (2%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 дехидр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2 литра (6% 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р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-11 литара (15%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762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226836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омогућава одржавање сталне телесне температуре због високог топлотног капацитета (4 пута већи од ваздух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топлоте испаравањем (знојењем) је једини терморегулациони механизам који функционише када сви други откажу (зрачење, кондукција, конвекциј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98620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се под утицајем Сунчеве енергије и растворених неорганских материја ствара жива материја која кружи у ланцу исхране (фитопланктон, па зоопланктон, па виши водени организми и т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" y="2589120"/>
            <a:ext cx="8305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је могућ живот, развој, размножавање и опстанак различитих биолошких и хемијских чинилаца који могу да утичу на здрав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м се могу пренети бактерије, вируси и параз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95732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к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е се могу пренети водом и доводе до оштећења здравља су: E. coli, Proteus, Streptococcus faecalis, Bacilus dysenteriae, Salmonella typhi, Salmonella paratyphi A i B, Shigellae, Vibrio colerae, Pasteurella tularenssis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ужuна њиховoг oпстaнкa у води зa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б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лoшке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н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e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e, Сунчeвe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тлости, количине органских материја, ф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зички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(npr. темпeр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и хем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ск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 (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. pH) свој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вo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26920" y="333360"/>
            <a:ext cx="74678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no (31 serot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o (31 ser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A (2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B (6 serotip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o (3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 (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to (2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tomegalo (1 sre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2489040"/>
            <a:ext cx="830592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жина опстанка неких ентеро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у даним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на в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ерска вода и акуму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гађена во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еко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2268360"/>
            <a:ext cx="8001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з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ameba histoli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mblia intestin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aris lumbrik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hocef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uris vermicu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628640"/>
            <a:ext cx="716292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организми краће опстају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гађеној 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ишој темпера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јачем и дужем Сунчевом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мањој количини органск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шћој промени физичких и хемијских својстав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254304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дацима СЗО од болести  пренетих водом оболи око 500 милиона људи, а умре око 10 мил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цењује се да око 10% болничких кревета користе болесници оболели од болести пренети микробиолошки неисправном 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64160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аци о тачном броју оболелих због употребе физичко- хемијски неисправне воде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може бити физичко-хемијски неисправна због повећа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нитр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и-метхемоглобинемија, магнезијум-дијареја, детерџенти-алергије, трухалометани, PAH, PCB-малигна обољењ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ли смање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јод-струма, флуор-зубни каријес, цалцијум и магнезијум. болести КВС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адржаја појединих показат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ВОД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125360"/>
            <a:ext cx="8439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за сн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који има најмање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,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, резервоар и водоводну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ВОДОВОДНА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цеви за одвод воде од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од резервоара до потр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хидранти и вентили су саставни део водоводне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Делови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главни вод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капта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резервоара до разводне м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разводна мре</a:t>
            </a:r>
            <a:r>
              <a:rPr b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а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главног вода до резервоара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6094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2381400"/>
            <a:ext cx="843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ухватају простор који се утвр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 за св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бунари и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за хватање подземне воде, захват са 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ог тока и акумулације),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, резервоара и главног цевовода у циљу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 квалитет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од намерног или слу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ног заг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ња као и других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тних утиц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ЕВИ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881360"/>
            <a:ext cx="8362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Plain"/>
              </a:rPr>
              <a:t>Врсте зон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а непосред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строгог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ограни</a:t>
            </a:r>
            <a:r>
              <a:rPr b="0" i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ењ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р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4360" y="404640"/>
            <a:ext cx="761976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ритеријуми за од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вање зона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изд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ости извор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об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н захват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анитарно-техн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 у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ење 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нфигу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хидрогеоло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а и др. својства земљ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ЕПОСРЕДНА зона санитарне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, црпних станица, инсталација за поправку квалитета воде, резервоара и комора за прекид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езб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гр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вањем (изузетак водоторњ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најмање 10 м од објекта код резервоара, црпних станица, инсталација за поправку воде, комора за прекид притиска и дубоко бу{ених бун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дозвољен приступ само запосленим лицима под здравственим над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м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се користити само као сенокос, али без употребе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11280" y="189000"/>
            <a:ext cx="7696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и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под санитарним надзором на којој није дозвољена изградња об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окупну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у депресионог левка или најмање 500 м око акумулације при нормалном усп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не огр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, 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 се м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 користити у пољопривредне сврхе уз огран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ње употребе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40464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Р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у или део територије сливног подр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ја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или територију која сл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 за напајање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забрањена је изградања индустријских и других објеката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је отпадне воде и материје из технол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ког процеса могу загадити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404640"/>
            <a:ext cx="74674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споставља око главних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зноси најмање по 2,5 метара са сваке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 њему није дозвољена изградња објеката, постављање у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ја и обављање радњи које на било који н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 могу угрозити воду и стабилност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43000" y="68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1484280"/>
            <a:ext cx="708660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 је метод пречишћавања воде којим се уклањају патогени и условно патогени микроорганизми. Њиме се не уклањају спорогени облици и цисте. Вируси се могу уклањати при довољно дугој изложеност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43000" y="200988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лањање патогених и условно патогених микроорганизама је последица поремећаја колоидне равнотеже и/или равнотеже ферментног система дисања и/или метаболизма микро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95280" y="1197000"/>
            <a:ext cx="806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Е ДЕЗ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ХАНИЧКЕ МЕТО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ЕМИЈС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826920" y="260280"/>
            <a:ext cx="7315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Ч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распрострањенија механичка метода дезинфекције воде ј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лтри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ТРИРАЊЕ се користи за дезинфекцију малих количина воде за пиће или као једна од етапа у преради великих количина воде за пи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познатији филтри су: Chamberland-ovi, Berkfefeld-ovi, а у нови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eм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стичних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39640" y="404640"/>
            <a:ext cx="8136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ке методе дезинфекције се обично користе за дезинфекцију малих количина воде за пи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њује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кључа 10 минута, што је довољно да се коагулишу беланчевине бактер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љубичасти зр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аласна дужина од 2000-2950 ангстрема разарају протоплазму микроорганизама. Уклањају бактерије и вирусе. Услов је бистра вода  која се у танком млазу пропушта преко површине лампе. На овај начин се најчешће дезинфикује минерална вода. Недостатак методе је одсуство одложеног дезинфекционог е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4360" y="54936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  воде обухватају примену хемијских супстан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се ретко дезинфикује кречом, персирћетном киселином, јодом, тешким металима (сребром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јчешће се хемијска дезинфекција воде обавља применом хлора и оз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4360" y="404640"/>
            <a:ext cx="7696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хл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је жућкасто-зеленкасти гас који у контакту са водом ствара хипохлорасту киселину, хлороводоничну киселину и насцентни кисео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ханизам дејства није до краја расветљен, али се сматра да је бактерицидни ефекат последица реакције хипохлорасте киселине, хлороводоничне киселине и насцентног кисеоника са SH-ферментним системом дисањ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и-азо-фосфор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хидрогеназ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ује на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атогене и условно патоге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ентеровир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87280" y="260280"/>
            <a:ext cx="7315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их својстава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могенизациј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а контакта са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еоролошких еле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а суспендованих и органских ма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900000" y="62064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о су микроорганизми савршенији то су отпорнији на дезинфекцију хлором. Грам-негативне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moneлла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су осетљивије од грам-позитивних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gela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бољи бактерицидни ефекат показује хлор-диоксид, па хлор, гас, хлор течност, хипохлораста киселина, хлорни креч, хлорам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парат мора бити добро хомогенизован да би дезинфекција била успеш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900000" y="549360"/>
            <a:ext cx="7543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контакта мора да је најмањ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ижим температурама је дезинфекција спорија, а и потребна је већа количина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нчево зрачење и ветар убрзавају дезинфекцију, али и исчезавање хлора из 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редност за дезинфекцију је 6,2-6,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pH 7,2 дезинфекциони ефекат је 84%, а при pH 8 је 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а мутноћа, присуство суспендованих и органских материја смањују ефекат дез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476280"/>
            <a:ext cx="769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ржишту број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фикасност зависи од садржаја активног х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гас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 се раствара 9,5g. У водоводном систему да би дезинфекција била успешна пожељно је да буде температура 10-1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притисак 3 at као би растворљивост била 4,0 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диокси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2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се раствара 81 g. Оптимална концентрација за дезинфекцију подземне и пречишћене воде је 0,25-0,5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89000"/>
            <a:ext cx="8591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креч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еша у којој преовлађује хлор-хипохлорит који је нестабилно једињење. Када се правилно чува садржај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ивног хлора је 30-35 %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У промету је концентрација од 20%. Препарат је јефтин, сигуран и широко се примењуј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охлорит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лор у њима је стабилно везан. Најпознатији препарати су капорит са 60-70% активног хлора, натријум-хипохлорит тј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авелова вода са 12-15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ански препарати 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-60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Имају споро и продужено дејство које се манифестује релативно стабилном нивоом слободног резидуалног хлора по завршетку процеса хлорисањ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692280"/>
            <a:ext cx="754380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ХЛОР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Д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ХЛОРИСАЊЕ СА ДЕХЛОРИС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ИСАЊЕ НА 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ЧКИ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95280" y="33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ОЗ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н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ко дезинфек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сидише и разара органске у неорганске материје у води и побољшава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која се дезинфикује озоном мора бити чиста и б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вни недостатак методе је одсуство продуженог дезинфекционог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411280" y="62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ГИЈЕН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штетни фактори, поред физичких, хемијских и билошких, јављају се и  бројни  други  чиниоци  који  нарушавајући  кон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 практичном делу хигијена рада решава питања санитарног надзора у производњи путем периодичне контроле и мерења услова рада и професионалних штетних фактора  у  фабрикама  и  другим  производним установама. Велики значај има и санитарни надзор над пројектовањем, изградњом и реконструкцијом производних објек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Откривање,  идентификација  и  квантификација  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ских и биолошких фактора у радној средини и њихова евалуац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2. Евалуација других фактора услова рада и радне средине који делују на организам као стес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3. Предлагање  мера  за  побољшавање  услова  рада  и смањивање ризика од настанка професионалних обољења и повреда на р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4. Изучавање  и   предлагање   мера   за   обезбеђење физиолошких услова рада у току радног процеса  уз прилагођавање   техничких   система   и   техноло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Екологија рада је оријентисана на подручје радне средине и обухва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1.    Процену биолошких захтева радног м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2.    Препознавање и идентификацију ште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3.    Евалуацију и контр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физич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биолош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рус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Бактер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Гљив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ротоз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Хелми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ртропод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ви микроорганизми или њихови фрагменти могу изазвати професионална обољења или обољења везана за ра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односу на домаћина, биолошки агенси могу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Патоген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довести до инфекције и обољ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Опортунистичк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изазвати инфекцију и обољење само када је смањена отпорност домаћ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Апатогени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 Изазивају  само  колонизацију  која  не штети домаћ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хемијс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које  унете  у  организам  у малим   количинама   изазивају   хеми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500" spc="-1" strike="noStrike">
                <a:solidFill>
                  <a:srgbClr val="000000"/>
                </a:solidFill>
                <a:latin typeface="Calibri"/>
              </a:rPr>
              <a:t>ФАКТОРИ ЖИВОТНЕ 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Животну средину карактерише и шест група фактор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везани  за  физичку  активност  радника  (динамичку или статичку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 везани   за   менталну   активност   рад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(перцепција, одлучивање, деловањ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и    фактори    (нутрицијенси,   кисеоник,   вода, хемијске материје у радној средини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изчки фактори (звук, вибрације, клима, радијација и др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биолошки фактори (бактерије, вируси, гљивице, животиње, биљк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социјални фактори (међуљудски односи, организа-ција рада, политички систем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Наведени фактори животне средине могу се класификовати и према биолошкој есенцијалности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биолошки есенцијални фактори - неопходни 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развој и очување здравља човека (нутрицијенси, физичка и ментална активност, социјални контакти, температура, влажност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неесенцијални фактори - нису неопходни з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за развој и очување здравља чове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о (штетн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материје,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козметика, дуван, алкохол, вибрације, јонизујуће зрачење и др.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средине може да доведе до њихове међусобне интеракције, овде се првенствено мисли на интер-акцију физичких, хемијских и биолошких фактора 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еракције животне и рад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теракција  сунчеве  светлости,  микроорганизама, влажности и температуре ваздуха и пестици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стовремено    присуство    сунчеве    светлости    и микроорганизама убрзава разградњу пестицида, ка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 већа влажност и температура ваздух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Ваздушни притисак и температура ваздуха делују на садржај издувних гасова дизел мотира;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и  сниженом атмосферском притиску концентрациј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иселих органских једињења у  издувним гасовима дизел мотора су веће него ли при нормалном прит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станак фотохемијског смога; У настанку смога учествују атмосферски кисеоник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лтравиолетна радијација и азотни оксид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нашање гасова и пара зависи од температуре и притис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ивене ште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Скривене  штетности  се  не  користе  и  непроизводе намерно, већ се стварају и у атмосферу ослобађ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 случају акцидент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Представљају адитив или онечишћење у другим хемијским матер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Бенз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Фосфин и арс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иокс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Приликом сагоревањ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след декомпози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пходно познавање и интеракција и извора скривених штетности и опас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МАКСИМАЛНО ДОЗВОЉЕНЕ ДОЗЕ И КОНЦЕНТРАЦИЈЕ (МДК и МД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Д и МДК су концентрације и дозе којима по досадашњим сазнањима, радници могу бити изложени 8 сати дневно, 5 дана недељно, током радног века, а да им здравље не буде угрож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вај индекс сигурности (коефицијент резерве) је неопходан због различите индивидуалне осетљивости организма. И поред тога осетљиви и хронично оболе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радници   могу   да   осете   одређене   тегобе   и   при концентрацијама и дозама нижим од МДК и МД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себне норме су израђене за физичке (јонизујућ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зрачење, разне прашине) и друге штетне аген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бавезујућ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репоруке-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тровност материје највише зависи од концен- трације и времена експозиције. У вези стим разликујем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концетрационе отров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чија отровност зависи претежно од концентрациј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хроно-концентрационе отрове - чија отровност зависи од времена експози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 оцену отровности неке материје најзначајнија је њена концентрација у крви, мада због различите биолошке активности отрова, ресорбована доза не говори увек о стварној отровности неке матер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бог   тога   се   токсични   ефекат   неке   матери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изражав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смртно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експонованих организама или патолошке промене у организму ко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на изаз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 има право на безбедност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здравље на раду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упиш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седам груп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е опасности (које се појављују коришћењем опреме за 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у вези са карактеристикама радног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коришћењем електричн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настају или се појављују у процесу ра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проистичу из психичких и психофизиолошких нап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везане за организацију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е штет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ОПАСНОСТИ И ШТЕ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609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еза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ста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тицај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о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дуг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брз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опш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напорн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комфор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увежб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истренир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су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ољ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нир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олес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бјективн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рмал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рис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вакодневних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чезав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павањ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21:20Z</dcterms:created>
  <dc:creator>Windows User</dc:creator>
  <dc:description/>
  <dc:language>en-US</dc:language>
  <cp:lastModifiedBy>nelad</cp:lastModifiedBy>
  <dcterms:modified xsi:type="dcterms:W3CDTF">2020-10-01T22:30:51Z</dcterms:modified>
  <cp:revision>15</cp:revision>
  <dc:subject/>
  <dc:title>ХИГИЈЕНА И ЕКОЛОГИЈА</dc:title>
</cp:coreProperties>
</file>